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3704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91CD-1D74-4136-9C47-E02C3611DE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37040" cy="3702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D548-2143-46DF-B12A-ADDC111893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37040" cy="3702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DCC5-2991-46DF-A5BE-DE95ECB622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239840" y="257040"/>
            <a:ext cx="4245120" cy="31845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374400" y="3424320"/>
            <a:ext cx="6119640" cy="64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ентная система налогообложения наряду с упрощенной системой и единым налогом на вмененный доход (ЕНВД) является специальным режимом налогообложения для субъектов малого бизнеса, призванным упростить условия налогообложения и ведения бизнеса, стимулировать его развит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ентная система налогообложения устанавливается Налоговым кодексом РФ, вводится в действие законами субъектов Российской Федерации и применяется на территориях указанных субъектов Российской Федерации. На территории нашей области данная система налогообложения действует в соответствии с законом области 29 ноября 2012 года № 2900-ОЗ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оплательщиком признается индивидуальный предприниматель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риниматель вправе применять данную  систему, при соблюдении ряда условий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3510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енность наемных работников не более 15 человек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3510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ение деятельности, предусмотренной Налоговым кодексом. До этого года количество видов предпринимательской деятельности, в отношении которых возможно применение патентной системы налогообложения составляло 47, с этого года их число увеличилось до 63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3510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ент может приобретаться на период от 1 до 12 месяцев в рамках 1 календарного год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3510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ический доход предпринимателя не должен превышать 60 млн.рублей в год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2DA3-E685-456A-A9AD-97BD3E3159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598760" y="257040"/>
            <a:ext cx="3836880" cy="2876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303120" y="3137040"/>
            <a:ext cx="6191280" cy="62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 преимуществами патентной системы налогообложения является простота применения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первых – нет необходимости вести бухгалтерский учет. Предприниматель должен вести только книгу учета доходов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торых – предприниматель на патенте освобожден от обязанности представлять в налоговые органы налоговую декларацию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етьих – освобождение  от уплаты налогов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ДФЛ (в части доходов по деятельности, подпадающей под патент)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ДС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лога на имущество физических лиц, за исключением объектов недвижимости, включенных в перечень объектов, в отношении которых налог исчисляется исходя из кадастровой стоимости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твертых - предприниматели, применяющие патентную систему налогообложения, вправе не пользоваться контрольно-кассовой техникой при осуществлении расчетов с клиента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ятых -  выбор системы добровольный и предполагает самостоятельный выбор налогоплательщика срока её применения. Для тех предпринимателей, которые только начинают вести свою деятельность и не уверены в стабильности бизнеса, это позволит платить налог малыми долями. Выбрав короткий срок действия патента, налогоплательщик тем самым уменьшит размер уплачиваемого налог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09DF-A498-45B0-899E-74ACC45791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598760" y="328680"/>
            <a:ext cx="4033800" cy="3024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74400" y="3423960"/>
            <a:ext cx="604836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лучения патента предпринимателю необходимо подать заявление на получение патента по утвержденной форме в налоговый орган за 10 дней до начала деятельности. При осуществлении деятельности по месту жительства - заявление подается в налоговый орган по месту жительства. Если предприниматель собирается вести деятельность в регионе в котором не стоит на учете заявление подается по месту планируемой деятельности. Патент выдается в течение 5 дней с момента получения заявлен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гражданин планирует впервые стать индивидуальным предпринимателем и вести деятельность на основе патента, то заявление на патент подается одновременно с документами, представляемыми для государственной регистрации в качестве предпринимателя. В этом случае патент действует со дня государственной регистрации предпринимател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E578-66BC-499E-9B54-4A29F2CEC9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78040" y="257040"/>
            <a:ext cx="4937040" cy="3702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303120" y="4073400"/>
            <a:ext cx="6120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стоимости патента не зависит от размера фактически полученного индивидуальным предпринимателем дохода, а определяется исходя из суммы потенциального годового дохода установленного законом области по каждому виду деятельности. Размер налога рассчитывается как произведение потенциального дохода и налоговой ставки 6%. Например, по виду деятельности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ремонт жилья» потенциальный годового дохода  установлен в размере 225 тыс.руб. при численности работников от 0 до 5 челове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результате сумма налога в год составит 13,5 тыс.рублей. Если патент взят на полгода, соответственно сумма налога составит 6750 рублей.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и уплата налога зависят от срока действия патент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если патент получен на срок до 6 месяцев -  налог уплачивается в размере полной суммы  в срок не позднее срока окончания действия патен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если патент получен на срок от 6 до 12 месяцев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лачиваем налог двумя частям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змере 1/3 суммы налога в срок не позднее 90 дней после начала действия патент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змере 2/3 суммы налога в срок не позднее срока окончания действия патен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4B77-6A20-49E5-A897-351B3876C3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50760" y="257040"/>
            <a:ext cx="4937400" cy="3702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374400" y="4000320"/>
            <a:ext cx="6048360" cy="58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лайде представлена динамика количества выданных патентов и предпринимателей работающих на  патенте в обла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ьшее количество патентов выдано в 2012 году, в 2013 году наблюдается их резкое снижение - практически в 2 раза, число предпринимателей, получивших патент, снизилось на 37%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вязано с двумя значительными изменениями в налогообложении малого предпринимательств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рвое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января 2013 года отменена возможность уменьшать стоимость патента на размер страховых взносов (ранее снижение предусматривалось до 50% стоимости патента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торое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ктически в 2 раза увеличился фиксированный размер страховых взносов для индивидуальных предпринимателей с 17,2 тыс.рублей в 2012 году до 35,7 тыс.рублей в 2013 году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15 году ситуация начала исправляться, число выданных патентов увеличилось по сравнению с 2014 годом на 30% и составило 756, число предпринимателей, применяющих патентную систему, возросло на треть - до 594 человек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48DF-8837-4E5F-AA79-9E251AF4A5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37040" cy="3702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атентной системе налогообложения, как и по иным специальным режимам налогообложения наблюдается положительная динамика поступления платежей в бюджет области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 поступлений по данному налогу составил за 2015 год 24 млн. рублей, что на 33% выше уровня 2014 года и в 2,4 раза выше уровня 2013 год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действующая на территории области патентная система налогообложения имеет положительные показатели развит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FE33-E3BB-431C-8771-3D25A65F25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34C2-BAA6-4392-A679-193C039C6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72FB-6972-4E4A-BE7A-A32BA305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1A04-D9A0-4EA8-9A83-B1BBAB33C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8A83-3E5F-4902-8E5F-66A88D0D7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D883-1745-4241-A63F-DF3E2D1C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BB7A-2639-4827-9A79-94020E02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E32E-4FB7-4D73-A5AA-ADC6D6BE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9855-9B77-4EC0-9AA1-71905FEE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0168-4362-4D8D-A768-D12E8004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ED39-CE59-4B3A-BD57-9176618A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B60D-9130-45B4-B6B5-E00A21CE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F390-1A72-452B-BF8A-36024044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A21B-BC79-4BDB-8A3F-B740519D5BC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CE27-BA86-4F38-8024-BEEDF03450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84872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4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Патентная система  налогообложения </a:t>
            </a:r>
            <a:br>
              <a:rPr sz="4000"/>
            </a:br>
            <a:r>
              <a:rPr b="1" lang="ru-RU" sz="4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на территории </a:t>
            </a:r>
            <a:br>
              <a:rPr sz="4000"/>
            </a:br>
            <a:r>
              <a:rPr b="1" lang="ru-RU" sz="4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Вологодской области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440" y="3505320"/>
            <a:ext cx="7846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96360" cy="1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Trebuchet MS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Основные изменения законодательства, касающиеся ПСН</a:t>
            </a:r>
            <a:br>
              <a:rPr sz="2400"/>
            </a:br>
            <a:r>
              <a:rPr b="0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законопроект № 973160-7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DECF-56EE-484E-AE22-5E0F2D6D060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угольник 7"/>
          <p:cNvSpPr/>
          <p:nvPr/>
        </p:nvSpPr>
        <p:spPr>
          <a:xfrm>
            <a:off x="684360" y="1413000"/>
            <a:ext cx="7991280" cy="1079280"/>
          </a:xfrm>
          <a:prstGeom prst="rect">
            <a:avLst/>
          </a:prstGeom>
          <a:solidFill>
            <a:srgbClr val="dce6f2"/>
          </a:solidFill>
          <a:ln w="9360">
            <a:solidFill>
              <a:srgbClr val="59595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о право уменьшать сумму налоговых платежей на сумму страховых платежей и пособ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Скругленный прямоугольник 1"/>
          <p:cNvSpPr/>
          <p:nvPr/>
        </p:nvSpPr>
        <p:spPr>
          <a:xfrm>
            <a:off x="826920" y="2997360"/>
            <a:ext cx="3240360" cy="19443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9360">
            <a:solidFill>
              <a:srgbClr val="99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П С РАБОТНИК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лог уменьшается                     не более, чем на 5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Скругленный прямоугольник 5"/>
          <p:cNvSpPr/>
          <p:nvPr/>
        </p:nvSpPr>
        <p:spPr>
          <a:xfrm>
            <a:off x="5003640" y="2997360"/>
            <a:ext cx="3240360" cy="19443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9360">
            <a:solidFill>
              <a:srgbClr val="99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П БЕЗ РАБОТНИ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размере страховых взносов в фиксированном размере (п. 1 ст. 430 НК РФ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35164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Trebuchet MS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Основные изменения законодательства, касающиеся ПСН</a:t>
            </a:r>
            <a:br>
              <a:rPr sz="2200"/>
            </a:br>
            <a:r>
              <a:rPr b="0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законопроект № 973160-7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DDDE-1FF8-4A44-A88E-2C257B1296D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угольник 1"/>
          <p:cNvSpPr/>
          <p:nvPr/>
        </p:nvSpPr>
        <p:spPr>
          <a:xfrm>
            <a:off x="755640" y="1341360"/>
            <a:ext cx="7561440" cy="1557000"/>
          </a:xfrm>
          <a:prstGeom prst="rect">
            <a:avLst/>
          </a:prstGeom>
          <a:solidFill>
            <a:srgbClr val="dce6f2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Увеличение максимальной площади зала розничной торговли стационарной торговой сети и зала обслуживания посетителей объектов общественного питани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150 квадратных метр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4"/>
          <p:cNvSpPr/>
          <p:nvPr/>
        </p:nvSpPr>
        <p:spPr>
          <a:xfrm>
            <a:off x="684360" y="3933720"/>
            <a:ext cx="7632720" cy="14655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Применять ПСН смогут ИП, сдающие в аренду недвижимость, не принадлежащую им на правах собствен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A980-922E-486C-A39C-BFD7919F95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Заголовок 1"/>
          <p:cNvSpPr/>
          <p:nvPr/>
        </p:nvSpPr>
        <p:spPr>
          <a:xfrm>
            <a:off x="755640" y="1989000"/>
            <a:ext cx="7772400" cy="28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Особенности законодательства</a:t>
            </a:r>
            <a:br>
              <a:rPr sz="2200"/>
            </a:br>
            <a:r>
              <a:rPr b="1" lang="ru-RU" sz="2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по патентной системе налогообложения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3" descr="НК РФ.jpg"/>
          <p:cNvPicPr/>
          <p:nvPr/>
        </p:nvPicPr>
        <p:blipFill>
          <a:blip r:embed="rId1"/>
          <a:srcRect l="14292" t="2380" r="14292" b="2380"/>
          <a:stretch/>
        </p:blipFill>
        <p:spPr>
          <a:xfrm>
            <a:off x="468360" y="849240"/>
            <a:ext cx="1888920" cy="251928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35"/>
          <p:cNvSpPr/>
          <p:nvPr/>
        </p:nvSpPr>
        <p:spPr>
          <a:xfrm>
            <a:off x="4572000" y="849240"/>
            <a:ext cx="4248000" cy="25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ентная система налогообложения устанавливается Налоговым кодексом Российской Федерации и законом субъекта РФ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кон Вологодской области от 29.11.2012г. №2900-ОЗ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36"/>
          <p:cNvSpPr/>
          <p:nvPr/>
        </p:nvSpPr>
        <p:spPr>
          <a:xfrm>
            <a:off x="468360" y="4149720"/>
            <a:ext cx="3943440" cy="35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ельщик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9"/>
          <p:cNvSpPr/>
          <p:nvPr/>
        </p:nvSpPr>
        <p:spPr>
          <a:xfrm>
            <a:off x="4572000" y="4149720"/>
            <a:ext cx="4248000" cy="35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й предприниматель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10"/>
          <p:cNvSpPr/>
          <p:nvPr/>
        </p:nvSpPr>
        <p:spPr>
          <a:xfrm>
            <a:off x="468360" y="4653000"/>
            <a:ext cx="394344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енность работающи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11"/>
          <p:cNvSpPr/>
          <p:nvPr/>
        </p:nvSpPr>
        <p:spPr>
          <a:xfrm>
            <a:off x="4572000" y="4653000"/>
            <a:ext cx="424800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0 до 15 человек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12"/>
          <p:cNvSpPr/>
          <p:nvPr/>
        </p:nvSpPr>
        <p:spPr>
          <a:xfrm>
            <a:off x="468360" y="5157720"/>
            <a:ext cx="3943440" cy="57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ия по видам деятельност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13"/>
          <p:cNvSpPr/>
          <p:nvPr/>
        </p:nvSpPr>
        <p:spPr>
          <a:xfrm>
            <a:off x="4572000" y="5157720"/>
            <a:ext cx="4248000" cy="57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 вида + 19 дополнительных видов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14"/>
          <p:cNvSpPr/>
          <p:nvPr/>
        </p:nvSpPr>
        <p:spPr>
          <a:xfrm>
            <a:off x="468360" y="5877000"/>
            <a:ext cx="394344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действия патент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15"/>
          <p:cNvSpPr/>
          <p:nvPr/>
        </p:nvSpPr>
        <p:spPr>
          <a:xfrm>
            <a:off x="4572000" y="5877000"/>
            <a:ext cx="424800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1 до 12 месяцев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16"/>
          <p:cNvSpPr/>
          <p:nvPr/>
        </p:nvSpPr>
        <p:spPr>
          <a:xfrm>
            <a:off x="468360" y="3645000"/>
            <a:ext cx="8351640" cy="36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применения патентной системы налогообложения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17"/>
          <p:cNvSpPr/>
          <p:nvPr/>
        </p:nvSpPr>
        <p:spPr>
          <a:xfrm>
            <a:off x="468360" y="6381720"/>
            <a:ext cx="394344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ьный доход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18"/>
          <p:cNvSpPr/>
          <p:nvPr/>
        </p:nvSpPr>
        <p:spPr>
          <a:xfrm>
            <a:off x="4572000" y="6381720"/>
            <a:ext cx="424800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 млн. рублей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rcRect l="12549" t="20407" r="50001" b="14565"/>
          <a:stretch/>
        </p:blipFill>
        <p:spPr>
          <a:xfrm>
            <a:off x="2440080" y="849240"/>
            <a:ext cx="1844640" cy="25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rcRect l="8298" t="62485" r="71358" b="21433"/>
          <a:stretch/>
        </p:blipFill>
        <p:spPr>
          <a:xfrm>
            <a:off x="649440" y="2565360"/>
            <a:ext cx="1252440" cy="1430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rcRect l="6898" t="19168" r="70100" b="68337"/>
          <a:stretch/>
        </p:blipFill>
        <p:spPr>
          <a:xfrm>
            <a:off x="671400" y="912960"/>
            <a:ext cx="1163880" cy="961920"/>
          </a:xfrm>
          <a:prstGeom prst="rect">
            <a:avLst/>
          </a:prstGeom>
          <a:ln w="0">
            <a:noFill/>
          </a:ln>
        </p:spPr>
      </p:pic>
      <p:sp>
        <p:nvSpPr>
          <p:cNvPr id="6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D161-BE2C-47F9-B365-26CBF9BBDE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3"/>
          <a:srcRect l="10154" t="46400" r="73208" b="40199"/>
          <a:stretch/>
        </p:blipFill>
        <p:spPr>
          <a:xfrm>
            <a:off x="822240" y="1806480"/>
            <a:ext cx="905040" cy="939960"/>
          </a:xfrm>
          <a:prstGeom prst="rect">
            <a:avLst/>
          </a:prstGeom>
          <a:ln w="0">
            <a:noFill/>
          </a:ln>
        </p:spPr>
      </p:pic>
      <p:sp>
        <p:nvSpPr>
          <p:cNvPr id="69" name="Скругленный прямоугольник 9"/>
          <p:cNvSpPr/>
          <p:nvPr/>
        </p:nvSpPr>
        <p:spPr>
          <a:xfrm>
            <a:off x="2124000" y="1052640"/>
            <a:ext cx="6570720" cy="79200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з бухгалте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т необходимости нанимать бухгалтера. Бухгалтерский учет заменит заполнение книги учета доходов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Скругленный прямоугольник 10"/>
          <p:cNvSpPr/>
          <p:nvPr/>
        </p:nvSpPr>
        <p:spPr>
          <a:xfrm>
            <a:off x="2106720" y="2041560"/>
            <a:ext cx="6568920" cy="57636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з деклар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надо сдавать в налоговый орган налоговую декларацию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кругленный прямоугольник 11"/>
          <p:cNvSpPr/>
          <p:nvPr/>
        </p:nvSpPr>
        <p:spPr>
          <a:xfrm>
            <a:off x="2144880" y="2852640"/>
            <a:ext cx="6568920" cy="112716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з уплаты налог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тент освобождает от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ДС (кроме ввоза товаров на территорию РФ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ДФЛ – по виду деятельности на который выдан патент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лог на имущество (</a:t>
            </a: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пример: за квартиру, гараж при сдаче их в аренду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Заголовок 1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Преимущества  патентной системы налогообло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2" descr=""/>
          <p:cNvPicPr/>
          <p:nvPr/>
        </p:nvPicPr>
        <p:blipFill>
          <a:blip r:embed="rId4"/>
          <a:stretch/>
        </p:blipFill>
        <p:spPr>
          <a:xfrm>
            <a:off x="853920" y="5364000"/>
            <a:ext cx="835200" cy="9511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"/>
          <p:cNvPicPr/>
          <p:nvPr/>
        </p:nvPicPr>
        <p:blipFill>
          <a:blip r:embed="rId5"/>
          <a:stretch/>
        </p:blipFill>
        <p:spPr>
          <a:xfrm>
            <a:off x="649440" y="3979800"/>
            <a:ext cx="1249200" cy="1249560"/>
          </a:xfrm>
          <a:prstGeom prst="rect">
            <a:avLst/>
          </a:prstGeom>
          <a:ln w="0">
            <a:noFill/>
          </a:ln>
        </p:spPr>
      </p:pic>
      <p:sp>
        <p:nvSpPr>
          <p:cNvPr id="75" name="Скругленный прямоугольник 13"/>
          <p:cNvSpPr/>
          <p:nvPr/>
        </p:nvSpPr>
        <p:spPr>
          <a:xfrm>
            <a:off x="2106720" y="4208400"/>
            <a:ext cx="6568920" cy="87624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з кассового аппар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 осуществлении наличных расчетов с покупателями нет необходимости пользоваться контрольно-кассовой техникой по отдельным видам деятель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Скругленный прямоугольник 14"/>
          <p:cNvSpPr/>
          <p:nvPr/>
        </p:nvSpPr>
        <p:spPr>
          <a:xfrm>
            <a:off x="2124000" y="5553000"/>
            <a:ext cx="6570720" cy="75564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бор срока использования патен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приниматель сам выбирает когда он будет пользоваться патенто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ая соединительная линия 8"/>
          <p:cNvSpPr/>
          <p:nvPr/>
        </p:nvSpPr>
        <p:spPr>
          <a:xfrm flipV="1">
            <a:off x="822240" y="4208040"/>
            <a:ext cx="879480" cy="8794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ая соединительная линия 16"/>
          <p:cNvSpPr/>
          <p:nvPr/>
        </p:nvSpPr>
        <p:spPr>
          <a:xfrm flipH="1" flipV="1">
            <a:off x="861480" y="4223880"/>
            <a:ext cx="863640" cy="8636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люс 25"/>
          <p:cNvSpPr/>
          <p:nvPr/>
        </p:nvSpPr>
        <p:spPr>
          <a:xfrm>
            <a:off x="861840" y="5697360"/>
            <a:ext cx="254160" cy="1796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" bIns="-4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люс 27"/>
          <p:cNvSpPr/>
          <p:nvPr/>
        </p:nvSpPr>
        <p:spPr>
          <a:xfrm>
            <a:off x="1055520" y="5697360"/>
            <a:ext cx="254160" cy="1796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" bIns="-4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17" descr=""/>
          <p:cNvPicPr/>
          <p:nvPr/>
        </p:nvPicPr>
        <p:blipFill>
          <a:blip r:embed="rId1"/>
          <a:srcRect l="0" t="3997" r="0" b="0"/>
          <a:stretch/>
        </p:blipFill>
        <p:spPr>
          <a:xfrm>
            <a:off x="5888160" y="887400"/>
            <a:ext cx="3284280" cy="3544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8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1598-46D0-440E-B473-1B86A6475710}" type="slidenum"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Заголовок 1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Порядок  получения патента и уплаты налог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20"/>
          <p:cNvSpPr/>
          <p:nvPr/>
        </p:nvSpPr>
        <p:spPr>
          <a:xfrm>
            <a:off x="4932360" y="4432320"/>
            <a:ext cx="4032360" cy="1300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логовый орган (по месту жительства предпринимателя или по месту осуществления деятельности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Стрелка вправо 22"/>
          <p:cNvSpPr/>
          <p:nvPr/>
        </p:nvSpPr>
        <p:spPr>
          <a:xfrm>
            <a:off x="1979640" y="1341360"/>
            <a:ext cx="4273560" cy="1925640"/>
          </a:xfrm>
          <a:prstGeom prst="rightArrow">
            <a:avLst>
              <a:gd name="adj1" fmla="val 50000"/>
              <a:gd name="adj2" fmla="val 5003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явление (за 10 дней до начала ведения предпринимательской деятельност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Стрелка влево 19"/>
          <p:cNvSpPr/>
          <p:nvPr/>
        </p:nvSpPr>
        <p:spPr>
          <a:xfrm>
            <a:off x="1763640" y="2997360"/>
            <a:ext cx="4321080" cy="1458720"/>
          </a:xfrm>
          <a:prstGeom prst="leftArrow">
            <a:avLst>
              <a:gd name="adj1" fmla="val 50000"/>
              <a:gd name="adj2" fmla="val 50029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тент (в течении 5 дней со дня получения заявлени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32"/>
          <p:cNvSpPr/>
          <p:nvPr/>
        </p:nvSpPr>
        <p:spPr>
          <a:xfrm>
            <a:off x="324000" y="3691080"/>
            <a:ext cx="1008000" cy="674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Картинки по запросу предприниматель картинка"/>
          <p:cNvPicPr/>
          <p:nvPr/>
        </p:nvPicPr>
        <p:blipFill>
          <a:blip r:embed="rId2"/>
          <a:srcRect l="9086" t="0" r="28551" b="0"/>
          <a:stretch/>
        </p:blipFill>
        <p:spPr>
          <a:xfrm>
            <a:off x="0" y="887400"/>
            <a:ext cx="197964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Порядок расчета стоимости патента (размера налог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Скругленный прямоугольник 17"/>
          <p:cNvSpPr/>
          <p:nvPr/>
        </p:nvSpPr>
        <p:spPr>
          <a:xfrm>
            <a:off x="555480" y="1214280"/>
            <a:ext cx="278316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оимость патента в год (размер налог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Равно 2"/>
          <p:cNvSpPr/>
          <p:nvPr/>
        </p:nvSpPr>
        <p:spPr>
          <a:xfrm>
            <a:off x="3409920" y="1251000"/>
            <a:ext cx="863640" cy="611280"/>
          </a:xfrm>
          <a:prstGeom prst="pi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19"/>
          <p:cNvSpPr/>
          <p:nvPr/>
        </p:nvSpPr>
        <p:spPr>
          <a:xfrm>
            <a:off x="4367160" y="1214280"/>
            <a:ext cx="300204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логовая база (потенциальный годовой доход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Умножение 4"/>
          <p:cNvSpPr/>
          <p:nvPr/>
        </p:nvSpPr>
        <p:spPr>
          <a:xfrm>
            <a:off x="7407360" y="1197000"/>
            <a:ext cx="611280" cy="611280"/>
          </a:xfrm>
          <a:prstGeom prst="pi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Скругленный прямоугольник 21"/>
          <p:cNvSpPr/>
          <p:nvPr/>
        </p:nvSpPr>
        <p:spPr>
          <a:xfrm>
            <a:off x="8012160" y="1197000"/>
            <a:ext cx="874800" cy="936720"/>
          </a:xfrm>
          <a:custGeom>
            <a:avLst/>
            <a:gdLst>
              <a:gd name="textAreaLeft" fmla="*/ 42480 w 874800"/>
              <a:gd name="textAreaRight" fmla="*/ 832320 w 874800"/>
              <a:gd name="textAreaTop" fmla="*/ 42480 h 936720"/>
              <a:gd name="textAreaBottom" fmla="*/ 894240 h 936720"/>
            </a:gdLst>
            <a:ahLst/>
            <a:rect l="textAreaLeft" t="textAreaTop" r="textAreaRight" b="textAreaBottom"/>
            <a:pathLst>
              <a:path w="21600" h="23128">
                <a:moveTo>
                  <a:pt x="3600" y="0"/>
                </a:moveTo>
                <a:arcTo wR="3600" hR="3600" stAng="16200000" swAng="-5400000"/>
                <a:lnTo>
                  <a:pt x="0" y="19528"/>
                </a:lnTo>
                <a:arcTo wR="3600" hR="3600" stAng="10800000" swAng="-5400000"/>
                <a:lnTo>
                  <a:pt x="18000" y="231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ая соединительная линия 6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Скругленный прямоугольник 24"/>
          <p:cNvSpPr/>
          <p:nvPr/>
        </p:nvSpPr>
        <p:spPr>
          <a:xfrm>
            <a:off x="460440" y="3068640"/>
            <a:ext cx="272736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3 500 руб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Равно 25"/>
          <p:cNvSpPr/>
          <p:nvPr/>
        </p:nvSpPr>
        <p:spPr>
          <a:xfrm>
            <a:off x="3321000" y="3051000"/>
            <a:ext cx="865080" cy="611280"/>
          </a:xfrm>
          <a:prstGeom prst="pi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Скругленный прямоугольник 27"/>
          <p:cNvSpPr/>
          <p:nvPr/>
        </p:nvSpPr>
        <p:spPr>
          <a:xfrm>
            <a:off x="4241880" y="3014640"/>
            <a:ext cx="300348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25 000 руб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Умножение 29"/>
          <p:cNvSpPr/>
          <p:nvPr/>
        </p:nvSpPr>
        <p:spPr>
          <a:xfrm>
            <a:off x="7245360" y="3014640"/>
            <a:ext cx="612720" cy="612720"/>
          </a:xfrm>
          <a:prstGeom prst="pi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Скругленный прямоугольник 32"/>
          <p:cNvSpPr/>
          <p:nvPr/>
        </p:nvSpPr>
        <p:spPr>
          <a:xfrm>
            <a:off x="8012160" y="2997360"/>
            <a:ext cx="87480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Скругленный прямоугольник 33"/>
          <p:cNvSpPr/>
          <p:nvPr/>
        </p:nvSpPr>
        <p:spPr>
          <a:xfrm>
            <a:off x="287280" y="2421000"/>
            <a:ext cx="8856720" cy="455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мер расчета стоимости патента по виду деятельности «ремонт жилья» при численности работников от 0 до 5 челове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15"/>
          <p:cNvSpPr/>
          <p:nvPr/>
        </p:nvSpPr>
        <p:spPr>
          <a:xfrm>
            <a:off x="395280" y="4557600"/>
            <a:ext cx="1514520" cy="201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ок действия патен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16"/>
          <p:cNvSpPr/>
          <p:nvPr/>
        </p:nvSpPr>
        <p:spPr>
          <a:xfrm>
            <a:off x="2076480" y="4592520"/>
            <a:ext cx="1292040" cy="78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&lt;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6 ме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18"/>
          <p:cNvSpPr/>
          <p:nvPr/>
        </p:nvSpPr>
        <p:spPr>
          <a:xfrm>
            <a:off x="3513240" y="4592520"/>
            <a:ext cx="5451480" cy="78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0% до окончания срока действия патен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20"/>
          <p:cNvSpPr/>
          <p:nvPr/>
        </p:nvSpPr>
        <p:spPr>
          <a:xfrm>
            <a:off x="2082960" y="5527800"/>
            <a:ext cx="1292040" cy="1090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 6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12 ме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22"/>
          <p:cNvSpPr/>
          <p:nvPr/>
        </p:nvSpPr>
        <p:spPr>
          <a:xfrm>
            <a:off x="3513240" y="5516640"/>
            <a:ext cx="5451480" cy="1092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) 1/3 не позднее 90 дней после начала действия патен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) 2/3 до окончания срока действия патен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Заголовок 1"/>
          <p:cNvSpPr/>
          <p:nvPr/>
        </p:nvSpPr>
        <p:spPr>
          <a:xfrm>
            <a:off x="0" y="4005360"/>
            <a:ext cx="9144000" cy="431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Порядок уплаты патен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50920" y="1052640"/>
            <a:ext cx="8208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lnSpc>
                <a:spcPct val="10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 algn="just">
              <a:lnSpc>
                <a:spcPct val="107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в случае получения ИП патента на срок менее календарного года налог рассчитывается исходя из количества дней осуществления деятельности в этом календарном год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 algn="just">
              <a:lnSpc>
                <a:spcPct val="107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 algn="just">
              <a:lnSpc>
                <a:spcPct val="107000"/>
              </a:lnSpc>
              <a:spcBef>
                <a:spcPts val="601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в случае прекращения предпринимательской деятельности, в отношении которой применяется ПСН, налог пересчитывается исходя из фактического количества дней применения патентной системы налогообло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>
              <a:lnSpc>
                <a:spcPct val="17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501480"/>
            <a:ext cx="7853400" cy="4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46c0a"/>
                </a:solidFill>
                <a:latin typeface="Times New Roman"/>
                <a:ea typeface="Calibri"/>
              </a:rPr>
              <a:t>Порядок исчисления налога </a:t>
            </a:r>
            <a:br>
              <a:rPr sz="2200"/>
            </a:br>
            <a:r>
              <a:rPr b="0" lang="ru-RU" sz="2200" spc="-1" strike="noStrike">
                <a:solidFill>
                  <a:srgbClr val="e46c0a"/>
                </a:solidFill>
                <a:latin typeface="Times New Roman"/>
                <a:ea typeface="Calibri"/>
              </a:rPr>
              <a:t>(п.1 ст. 346.51 НК РФ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9329-CCA7-4B16-88FD-24B5F6D93F3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ичество выданных патентов и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ндивидуальных предпринимат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4"/>
          <p:cNvSpPr/>
          <p:nvPr/>
        </p:nvSpPr>
        <p:spPr>
          <a:xfrm>
            <a:off x="6678720" y="6356520"/>
            <a:ext cx="200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6EF6-44C5-4540-8F70-40B5B69E7A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Диаграмма 2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42472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Динамика поступления налога по патентной системе налогообложения, млн. руб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Диаграмма 3" descr=""/>
          <p:cNvPicPr/>
          <p:nvPr/>
        </p:nvPicPr>
        <p:blipFill>
          <a:blip r:embed="rId1"/>
          <a:stretch/>
        </p:blipFill>
        <p:spPr>
          <a:xfrm>
            <a:off x="-6480" y="3425760"/>
            <a:ext cx="4438800" cy="3438720"/>
          </a:xfrm>
          <a:prstGeom prst="rect">
            <a:avLst/>
          </a:prstGeom>
          <a:ln w="0">
            <a:noFill/>
          </a:ln>
        </p:spPr>
      </p:pic>
      <p:sp>
        <p:nvSpPr>
          <p:cNvPr id="116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DD33-B9E4-4F39-B68B-79D6C8026C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Диаграмма 2" descr=""/>
          <p:cNvPicPr/>
          <p:nvPr/>
        </p:nvPicPr>
        <p:blipFill>
          <a:blip r:embed="rId2"/>
          <a:stretch/>
        </p:blipFill>
        <p:spPr>
          <a:xfrm>
            <a:off x="900000" y="1413000"/>
            <a:ext cx="74170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80360" cy="1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Trebuchet MS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Основные изменения законодательства, касающиеся ПСН</a:t>
            </a:r>
            <a:br>
              <a:rPr sz="2200"/>
            </a:br>
            <a:r>
              <a:rPr b="0" lang="ru-RU" sz="2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законопроект № 973160-7 </a:t>
            </a: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A9BF-050A-484C-81FE-DA578F0468D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7"/>
          <p:cNvSpPr/>
          <p:nvPr/>
        </p:nvSpPr>
        <p:spPr>
          <a:xfrm>
            <a:off x="606600" y="1125360"/>
            <a:ext cx="8207280" cy="4751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видов деятельности, по которым применяется ПСН (до 87),                                       в том числ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луги по предоставлению во временное владение (в пользование) мест для стоянки автомототранспортных средств, по хранению автомототранспортных средств на платных стоянках (за исключением штрафных автостоянок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пространение наружной рекламы с использованием рекламных конструкц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изводство мясных продуктов: колбасных изделий, продуктов из мяса, шпика, полуфабрикатов, кулинарных изделий и других мясных продукт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луги по уходу за домашними животным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услуги по вспашке огород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и печатание визитных карточек и пригласительных билетов на семейные торжества; д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3T10:42:47Z</dcterms:created>
  <dc:creator>OEM</dc:creator>
  <dc:description/>
  <dc:language>en-US</dc:language>
  <cp:lastModifiedBy>DF-17-014</cp:lastModifiedBy>
  <cp:lastPrinted>2016-03-14T15:19:44Z</cp:lastPrinted>
  <dcterms:modified xsi:type="dcterms:W3CDTF">2020-10-02T07:38:41Z</dcterms:modified>
  <cp:revision>314</cp:revision>
  <dc:subject/>
  <dc:title>Слайд 1</dc:title>
</cp:coreProperties>
</file>